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7F4E-8785-40CF-9726-2F7C11543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4C88-E5FD-44A8-B9D3-08D61C21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EC42-821E-481C-92B4-47C9411BF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F068-A883-4B21-818D-17E52097C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E946-791B-496A-82B9-DFADC176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E4BC-2C5A-4CD8-A2C9-6275F372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D97B-974F-4F9B-98A4-997C4415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98E7-C155-4F29-AC91-27635CE2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ACCD-2930-4611-8699-CBD94050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4F9A-05AF-401E-93E3-3F38D759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DCF0-DAA8-4E37-8526-CE68B672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794B-A7D7-4401-A9E8-0A594C79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4AF0-DA88-4C4A-A1CA-F2FAE2CC5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121896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TA DEI DIRITTI FONDAMENTALI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L'UNIONE EUROPE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44197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00/C 364/0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18.12.2000 Gazzetta ufficiale delle Comunità europee C 364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O II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I B E R T A’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olo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itto alla libertà e alla sicurezz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gni individuo ha diritto alla libertà e alla sicurezz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olo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zione dei dati di carattere person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Ogni individuo ha diritto alla protezione dei dati di carattere personale che lo riguardan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Tali dati devono essere trattati secondo il principio di lealtà, per finalità determinate e in base al consenso della persona interessata o a un altro fondamento legittimo previsto dalla legge. Ogni individuo ha il diritto di accedere ai dati raccolti che lo riguardano e di ottenerne la rettific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Il rispetto di tali regole È soggetto al controllo di un'autorità indipenden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olo 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itto di sposarsi e di costituire una famigl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diritto di sposarsi e il diritto di costituire una famiglia sono garantiti secondo le leggi nazionali che ne disciplinano l'esercizi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olo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ertà di pensiero, di coscienza e di religion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Ogni individuo ha diritto alla libertà di pensiero, di coscienza e di religione. Tale diritto include la libertà di cambiare religione o convinzione, cosÏ come la libertà di manifestare la propria religione o la propria convinzione individualmente o collettivamente, in pubblico o in privato, mediante il culto, l'insegnamento, le pratiche e l'osservanza dei rit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Il diritto all'obiezione di coscienza È riconosciuto secondo le leggi nazionali che ne disciplinano l'eserciz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olo 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763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ertà di espressione e d'informazion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Ogni individuo ha diritto alla libertà di espressione. Tale diritto include la libertà di opinione e la libertà di ricevere o di comunicare informazioni o idee senza che vi possa essere ingerenza da parte delle autorità pubbliche e senza limiti di frontier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La libertà dei media e il loro pluralismo sono rispettat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olo 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ertà di riunione e di associazi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Ogni individuo ha diritto alla libertà di riunione pacifica e alla libertà di associazione a tutti i livelli, segnatamente in campo politico, sindacale e civico, il che implica il diritto di ogni individuo di fondare sindacati insieme con altri e di aderirvi per la difesa dei propri interess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I partiti politici a livello dell'Unione contribuiscono a esprimere la volontà politica dei cittadini dell'Uni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olo 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ertà delle arti e delle scienz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arti e la ricerca scientifica sono libere. La libertà accademica è rispettat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olo 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itto all'istruzio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Ogni individuo ha diritto all'istruzione e all'accesso alla formazione professionale e continu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Questo diritto comporta la facoltà di accedere gratuitamente all'istruzione obbligatori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La libertà di creare istituti di insegnamento nel rispetto dei principi democratici, cosÏ come il diritto dei genitori di provvedere all'educazione e all'istruzione dei loro figli secondo le loro convinzioni religiose, filosofiche e pedagogiche, sono rispettati secondo le leggi nazionali che ne disciplinano l'esercizi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olo 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ertà professionale e diritto di lavor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Ogni individuo ha il diritto di lavorare e di esercitare una professione liberamente scelta o accettat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Ogni cittadino dell'Unione ha la libertà di cercare un lavoro, di lavorare, di stabilirsi o di prestare servizi in qualunque Stato membr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I cittadini dei paesi terzi che sono autorizzati a lavorare nel territorio degli Stati membri hanno diritto a condizioni di lavoro equivalenti a quelle di cui godono i cittadini dell'Union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Parlamento europeo, il Consiglio e la Commissione proclamano solennemente quale Carta dei diritti</a:t>
            </a: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ndamentali dell'Unione europea il testo riportato in appresso.</a:t>
            </a:r>
            <a:br>
              <a:rPr sz="4400"/>
            </a:b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to a Nizza, addì sette dicembre duemil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olo 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ertà d'impres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’ riconosciuta la libertà d'impresa, conformemente al diritto comunitario e alle legislazioni e prassi nazional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olo 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itto di propriet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Ogni individuo ha il diritto di godere della proprietà dei beni che ha acquistato legalmente, di usarli, di disporne e di lasciarli in eredità. Nessuno può essere privato della proprietà se non per causa di pubblico interesse, nei casi e nei modi previsti dalla legge e contro il pagamento in tempo utile di una giusta indennità per la perdita della stessa. L'uso dei beni può essere regolato dalla legge nei limiti imposti dall'interesse genera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La proprietà intellettuale è protet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olo 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itto di asi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diritto di asilo è garantito nel rispetto delle norme stabilite dalla convenzione di Ginevra del 28 luglio 1951 e dal protocollo del 31 gennaio 1967, relativi allo status dei rifugiati, e a norma del trattato che istituisce la Comunità europe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olo 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zione in caso di allontanamento, di espulsione e di estradizi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Le espulsioni collettive sono vieta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Nessuno può essere allontanato, espulso o estradato verso uno Stato in cui esiste un rischio serio di essere sottoposto alla pena di morte, alla tortura o ad altre pene o trattamenti inumani o degradanti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O III</a:t>
            </a:r>
            <a:br>
              <a:rPr sz="6800"/>
            </a:br>
            <a:br>
              <a:rPr sz="6800"/>
            </a:br>
            <a:r>
              <a:rPr b="0" lang="en-US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G U A G L I A N Z A</a:t>
            </a:r>
            <a:br>
              <a:rPr sz="6800"/>
            </a:b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olo 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guaglianza davanti alla legg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tte le persone sono uguali davanti alla legge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olo 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 discriminazio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E’ vietata qualsiasi forma di discriminazione fondata, in particolare, sul sesso, la razza, il colore della pelle o l'origine etnica o sociale, le caratteristiche genetiche, la lingua, la religione o le convinzioni personali, le opinioni politiche o di qualsiasi altra natura, l'appartenenza ad una minoranza nazionale, il patrimonio, la nascita, gli handicap, l'età o le tendenze sessuali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Nell'ambito d'applicazione del trattato che istituisce la Comunità europea e del trattato sull'Unione europea è vietata qualsiasi discriminazione fondata sulla cittadinanza, fatte salve le disposizioni particolari contenute nei trattati stessi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olo 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ersità culturale, religiosa e linguistic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'Unione rispetta la diversità culturale, religiosa e linguistica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olo 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ità tra uomini e don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arità tra uomini e donne deve essere assicurata in tutti i campi, compreso in materia di occupazione, di lavoro e di retribuzio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principio della parità non osta al mantenimento o all'adozione di misure che prevedano vantaggi specifici a favore del sesso sottorappresentat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olo 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itti del bamb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I bambini hanno diritto alla protezione e alle cure necessarie per il loro benessere. Essi possono esprimere liberamente la propria opinione; questa viene presa in considerazione sulle questioni che li riguardano in funzione della loro età e della loro maturità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In tutti gli atti relativi ai bambini, siano essi compiuti da autorità pubbliche o da istituzioni private, l'interesse superiore del bambino deve essere considerato premin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Ogni bambino ha diritto di intrattenere regolarmente relazioni personali e contatti diretti con i due genitori, salvo qualora ciò sia contrario al suo interess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AMBO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 popoli europei nel creare tra loro un'unione sempre più stretta hanno deciso di condividere un futuro di pace fondato su valori comun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Consapevole del suo patrimonio spirituale e morale, l'Unione si fonda sui valori indivisibili e universali di dignità umana, di libertà, di uguaglianza e di solidarietà; l'Unione si basa sui principi di democrazia e dello stato di diritto. Essa pone la persona al centro della sua azione istituendo la cittadinanza dell'Unione e creando uno spazio di libertà, sicurezza e giustiz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L'Unione contribuisce al mantenimento e allo sviluppo di questi valori comuni, nel rispetto della diversità delle culture e delle tradizioni dei popoli europei, dell'identità nazionale degli Stati membri e dell'ordinamento dei loro pubblici poteri a livello nazionale, regionale e locale; essa cerca di promuovere uno sviluppo equilibrato e sostenibile e assicura la libera circolazione delle persone, dei beni, dei servizi e dei capitali nonché la libertà di stabilimen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A tal fine è necessario, rendendoli più visibili in una Carta, rafforzare la tutela dei diritti fondamentali alla luce dell'evoluzione della società, del progresso sociale e degli sviluppi scientifici e tecnologic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La presente Carta riafferma, nel rispetto delle competenze e dei compiti della Comunità e dell'Unione e del principio di sussidiarietà, i diritti derivanti in particolare dalle tradizioni costituzionali e dagli obblighi internazionali comuni agli Stati membri, dal trattato sull'Unione europea e dai trattati comunitari, dalla convenzione europea per la salvaguardia dei diritti dell'uomo e delle libertà fondamentali, dalle carte sociali adottate dalla Comunità e dal Consiglio d'Europa, nonché i diritti riconosciuti dalla giurisprudenza della Corte di giustizia delle Comunità europee e da quella della Corte europea dei diritti dell'uom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l godimento di questi diritti fa sorgere responsabilità e doveri nei confronti degli altri come pure della comunità umana e delle generazioni futu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ertanto, l'Unione riconosce i diritti, le libertà ed i principi enunciati qui di segui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olo 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itti degli anzian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'Unione riconosce e rispetta il diritto degli anziani di condurre una vita dignitosa e indipendente e di partecipare alla vita sociale e cultural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olo 2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imento dei disabil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'Unione riconosce e rispetta il diritto dei disabili di beneficiare di misure intese a garantirne l'autonomia, l'inserimento sociale e professionale e la partecipazione alla vita della comunità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89917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O IV</a:t>
            </a:r>
            <a:br>
              <a:rPr sz="7200"/>
            </a:b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O L I D A R I E T A’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olo 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itto dei lavoratori all'informazione e alla consultazione nell'ambito dell'impres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lavoratori o ai loro rappresentanti devono essere garantite, ai livelli appropriati, l'informazione e la consultazione in tempo utile nei casi e alle condizioni previsti dal diritto comunitario e dalle legislazioni e prassi nazionali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olo 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itto di negoziazione e di azioni collet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lavoratori e i datori di lavoro, o le rispettive organizzazioni, hanno, conformemente al diritto comunitario e alle legislazioni e prassi nazionali, il diritto di negoziare e di concludere contratti collettivi, ai livelli appropriati, e di ricorrere, in caso di conflitti di interessi, ad azioni collettive per la difesa dei loro interessi, compreso lo scioper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olo 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itto di accesso ai servizi di collocament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gni individuo ha il diritto di accedere a un servizio di collocamento gratuito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olo 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7631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tela in caso di licenziamento ingiustifica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gni lavoratore ha il diritto alla tutela contro ogni licenziamento ingiustificato, conformemente al diritto comunitario e alle legislazioni e prassi nazional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olo 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zioni di lavoro giuste ed e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Ogni lavoratore ha diritto a condizioni di lavoro sane, sicure e dignito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Ogni lavoratore ha diritto a una limitazione della durata massima del lavoro e a periodi di riposo giornalieri e settimanali e a ferie annuali retribui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olo 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eto del lavoro minorile e protezione dei giovani sul luogo di lavo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lavoro minorile È vietato. L'età minima per l'ammissione al lavoro non può essere inferiore all'età in cui termina la scuola dell'obbligo, fatte salve le norme più favorevoli ai giovani ed eccettuate deroghe limi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giovani ammessi al lavoro devono beneficiare di condizioni di lavoro appropriate alla loro età ed essere protetti contro lo sfruttamento economico o contro ogni lavoro che possa minarne la sicurezza, la salute, lo sviluppo fisico, mentale, morale o sociale o che possa mettere a rischio la loro istruzi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olo 3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a familiare e vita professional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E’ garantita la protezione della famiglia sul piano giuridico, economico e sociale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l fine di poter conciliare vita familiare e vita professionale, ogni individuo ha il diritto di essere tutelato contro il licenziamento per un motivo legato alla maternità e il diritto a un congedo di maternità retribuito e a un congedo parentale dopo la nascita o l'adozione di un figlio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O I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I G N I T A’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olo 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curezza sociale e assistenza soci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L'Unione riconosce e rispetta il diritto di accesso alle prestazioni di sicurezza sociale e ai servizi sociali che assicurano protezione in casi quali la maternità, la malattia, gli infortuni sul lavoro, la dipendenza o la vecchiaia, oltre che in caso di perdita del posto di lavoro, secondo le modalità stabilite dal diritto comunitario e le legislazioni e prassi nazional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Ogni individuo che risieda o si sposti legalmente all'interno dell'Unione ha diritto alle prestazioni di sicurezza sociale e ai benefici sociali conformemente al diritto comunitario e alle legislazioni e prassi nazional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Al fine di lottare contro l'esclusione sociale e la povertà, l'Unione riconosce e rispetta il diritto all'assistenza sociale e all'assistenza abitativa volte a garantire un'esistenza dignitosa a tutti coloro che non dispongano di risorse sufficienti, secondo le modalità stabilite dal diritto comunitario e le legislazioni e prassi nazional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olo 3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zione della salu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gni individuo ha il diritto di accedere alla prevenzione sanitaria e di ottenere cure mediche alle condizioni stabilite dalle legislazioni e prassi nazionali. Nella definizione e nell'attuazione di tutte le politiche ed attività dell'Unione è garantito un livello elevato di protezione della salute uman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olo 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o ai servizi d'interesse economico genera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fine di promuovere la coesione sociale e territoriale dell'Unione, questa riconosce e rispetta l'accesso ai servizi d'interesse economico generale quale previsto dalle legislazioni e prassi nazionali, conformemente al trattato che istituisce la Comunità europe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olo 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tela dell'ambien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livello elevato di tutela dell'ambiente e il miglioramento della sua qualità devono essere integrati nelle politiche dell'Unione e garantiti conformemente al principio dello sviluppo sostenibi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olo 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zione dei consumatori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lle politiche dell'Unione è garantito un livello elevato di protezione dei consumatori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O V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 T T A D I N A N Z A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olo 3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itto di voto e di eleggibilità alle elezioni del Parlamento europ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Ogni cittadino dell'Unione ha il diritto di voto e di eleggibilità alle elezioni del Parlamento europeo nello Stato membro in cui risiede, alle stesse condizioni dei cittadini di detto Sta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I membri del Parlamento europeo sono eletti a suffragio universale diretto, libero e segre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olo 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itto di voto e di eleggibilità alle elezioni comunal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gni cittadino dell'Unione ha il diritto di voto e di eleggibilità alle elezioni comunali nello Stato membro in cui risiede, alle stesse condizioni dei cittadini di detto Stat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olo 4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itto ad una buona amministr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Ogni individuo ha diritto a che le questioni che lo riguardano siano trattate in modo imparziale, equo ed entro un termine ragionevole dalle istituzioni e dagli organi dell'Uni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Tale diritto comprende in particol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l diritto di ogni individuo di essere ascoltato prima che nei suoi confronti venga adottato un provvedimento individuale che gli rechi pregiudizi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l diritto di ogni individuo di accedere al fascicolo che lo riguarda, nel rispetto dei legittimi interessi della riservatezza e del segreto professional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'obbligo per l'amministrazione di motivare le proprie decisio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Ogni individuo ha diritto al risarcimento da parte della Comunità dei danni cagionati dalle sue istituzioni o dai suoi agenti nell'esercizio delle loro funzioni conformemente ai principi generali comuni agli ordinamenti degli Stati membr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Ogni individuo può rivolgersi alle istituzioni dell'Unione in una delle lingue del trattato e deve ricevere una risposta nella stessa lingu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olo 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itto d'accesso ai documen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lsiasi cittadino dell'Unione o qualsiasi persona fisica o giuridica che risieda o abbia la sede sociale in uno Stato membro ha il diritto di accedere ai documenti del Parlamento europeo, del Consiglio e della Commissio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olo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nità uman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ignità umana è inviolabile. Essa deve essere rispettata e tutelata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olo 4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tor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lsiasi cittadino dell'Unione o qualsiasi persona fisica o giuridica che risieda o abbia la sede sociale in uno Stato membro ha il diritto di sottoporre al mediatore dell'Unione casi di cattiva amministrazione nell'azione delle istituzioni o degli organi comunitari, salvo la Corte di giustizia e il Tribunale di primo grado nell'esercizio delle loro funzioni giurisdizionali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olo 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itto di peti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lsiasi cittadino dell'Unione o qualsiasi persona fisica o giuridica che risieda o abbia la sede sociale in uno Stato membro ha il diritto di presentare una petizione al Parlamento europe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olo 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ertà di circolazione e di soggiorn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Ogni cittadino dell'Unione ha il diritto di circolare e di soggiornare liberamente nel territorio degli Stati membri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La libertà di circolazione e di soggiorno può essere accordata, conformemente al trattato che istituisce la Comunità europea, ai cittadini dei paesi terzi che risiedono legalmente nel territorio di uno Stato membro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olo 4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tela diplomatica e consol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gni cittadino dell'Unione gode, nel territorio di un paese terzo nel quale lo Stato membro di cui ha la cittadinanza non È rappresentato, della tutela delle autorità diplomatiche e consolari di qualsiasi Stato membro, alle stesse condizioni dei cittadini di detto Stato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O VI</a:t>
            </a:r>
            <a:br>
              <a:rPr sz="8800"/>
            </a:br>
            <a:br>
              <a:rPr sz="8800"/>
            </a:br>
            <a:r>
              <a:rPr b="0" lang="en-US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I U S T I Z I A</a:t>
            </a: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olo 4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itto a un ricorso effettivo e a un giudice imparzia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gni individuo i cui diritti e le cui libertà garantiti dal diritto dell'Unione siano stati violati ha diritto a un ricorso effettivo dinanzi a un giudice, nel rispetto delle condizioni previste nel presente articolo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gni individuo ha diritto a che la sua causa sia esaminata equamente, pubblicamente ed entro un termine ragionevole da un giudice indipendente e imparziale, precostituito per legge. Ogni individuo ha la facoltà di farsi consigliare, difendere e rappresentar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loro che non dispongono di mezzi sufficienti È concesso il patrocinio a spese dello Stato qualora ciò sia necessario per assicurare un accesso effettivo alla giustizia.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olo 4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unzione di innocenza e diritti della dife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Ogni imputato è considerato innocente fino a quando la sua colpevolezza non sia stata legalmente provat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Il rispetto dei diritti della difesa è garantito ad ogni imputato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olo 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i della legalità e della proporzionalità dei reati e delle p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Nessuno può essere condannato per un'azione o un'omissione che, al momento in cui È stata commessa, non costituiva reato secondo il diritto interno o il diritto internazionale. Parimenti, non può essere inflitta una pena più grave di quella applicabile al momento in cui il reato È stato commesso. Se, successivamente alla commissione del reato, la legge prevede l'applicazione di una pena più lieve, occorre applicare quest'ult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Il presente articolo non osta al giudizio e alla condanna di una persona colpevole di un'azione o di un'omissione che, al momento in cui è stata commessa, costituiva un crimine secondo i principi generali riconosciuti da tutte le nazio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Le pene inflitte non devono essere sproporzionate rispetto al rea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olo 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itto di non essere giudicato o punito due volte per lo stesso rea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suno può essere perseguito o condannato per un reato per il quale è già stato assolto o condannato nell'Unione a seguito di una sentenza penale definitiva conformemente alla legge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O VII</a:t>
            </a:r>
            <a:br>
              <a:rPr sz="7200"/>
            </a:b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I S P O S I Z I O N I 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E N E R A L I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olo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itto alla vi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Ogni individuo ha diritto alla vita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Nessuno può essere condannato alla pena di morte, né giustiziato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olo 5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to di applicaz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Le disposizioni della presente Carta si applicano alle istituzioni e agli organi dell'Unione nel rispetto del principio di sussidiarietà come pure agli Stati membri esclusivamente nell'attuazione del diritto dell'Unione. Pertanto, i suddetti soggetti rispettano i diritti, osservano i principi e ne promuovono l'applicazione secondo le rispettive competen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La presente Carta non introduce competenze nuove o compiti nuovi per la Comunità e per l'Unione, né modifica le competenze e i compiti definiti dai tratta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olo 5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ata dei diritti garanti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Eventuali limitazioni all'esercizio dei diritti e delle libertà riconosciuti dalla presente Carta devono essere previste dalla legge e rispettare il contenuto essenziale di detti diritti e libertà. Nel rispetto del principio di proporzionalità, possono essere apportate limitazioni solo laddove siano necessarie e rispondano effettivamente a finalità di interesse generale riconosciute dall'Unione o all'esigenza di proteggere i diritti e le libertà altru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I diritti riconosciuti dalla presente Carta che trovano fondamento nei trattati comunitari o nel trattato sull'Unione europea si esercitano alle condizioni e nei limiti definiti dai trattati stess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Laddove la presente Carta contenga diritti corrispondenti a quelli garantiti dalla convenzione europea per la salvaguardia dei diritti dell'uomo e delle libertà fondamentali, il significato e la portata degli stessi sono uguali a quelli conferiti dalla suddetta convenzione. La presente disposizione non preclude che il diritto dell'Unione conceda una protezione più estes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olo 5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llo di prote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suna disposizione della presente Carta deve essere interpretata come limitativa o lesiva dei diritti dell'uomo e delle libertà fondamentali riconosciuti, nel rispettivo ambito di applicazione, dal diritto dell'Unione, dal diritto internazionale, dalle convenzioni internazionali delle quali l'Unione, la Comunità o tutti gli Stati membri sono parti contraenti, in particolare la convenzione europea per la salvaguardia dei diritti dell'uomo e delle libertà fondamentali, e dalle costituzioni degli Stati membr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olo 5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eto dell'abuso di dirit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suna disposizione della presente Carta deve essere interpretata nel senso di comportare il diritto di esercitare un'attività o compiere un atto che miri alla distruzione dei diritti o delle libertà riconosciuti nella presente Carta o di imporre a tali diritti e libertà limitazioni più ampie di quelle previste dalla presente Car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C 364/22 Gazzetta ufficiale delle Comunità europee 18.12.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olo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itto all'integrità della per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Ogni individuo ha diritto alla propria integrità fisica e psichic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Nell'ambito della medicina e della biologia devono essere in particolare rispettati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l consenso libero e informato della persona interessata, secondo le modalità definite dalla legge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l divieto delle pratiche eugenetiche, in particolare di quelle aventi come scopo la selezione delle persone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l divieto di fare del corpo umano e delle sue parti in quanto tali una fonte di lucro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l divieto della clonazione riproduttiva degli esseri umani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olo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ibizione della tortura e delle pene o trattamenti inumani o degradant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suno può essere sottoposto a tortura, né a pene o trattamenti inumani o degradanti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olo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ibizione della schiavitù e del lavoro forzat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Nessuno può essere tenuto in condizioni di schiavitù o di servitù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Nessuno può essere costretto a compiere un lavoro forzato o obbligatori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E’ proibita la tratta degli esseri umani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4T15:34:05Z</dcterms:created>
  <dc:creator>Ispettore Luigi Torchio - Dir. Scol. Reg. FVG</dc:creator>
  <dc:description/>
  <dc:language>en-US</dc:language>
  <cp:lastModifiedBy>Ispettore Luigi Torchio - Dir. Scol. Reg. FVG</cp:lastModifiedBy>
  <dcterms:modified xsi:type="dcterms:W3CDTF">2002-09-07T16:49:02Z</dcterms:modified>
  <cp:revision>50</cp:revision>
  <dc:subject/>
  <dc:title>CARTA DEI DIRITTI FONDAMENTALI DELL'UNIONE EUROPEA</dc:title>
</cp:coreProperties>
</file>